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577-044E-44FB-9E9C-3CA711FC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D00-23FC-4B0D-B585-E4247AFB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43F7-1843-494A-88C2-C813A269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71B-40ED-4221-8908-942D97ED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3A9F-6983-4C24-9786-6D247690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CF65-B167-46FE-82A1-1CBCE135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8893-D8F0-49A7-8995-93833D40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D2DE-0D8A-4290-8729-2825479E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289E-94E3-4B4A-828B-3A966434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585A-A1E0-4BDE-AA1D-E50DEBB7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80F7-2A61-456F-A0D9-494A5BB7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20D-7397-4769-B91B-1D72635C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BAE8-8E89-49EC-BA11-46A0B459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9ADB-E4CB-41C2-92A2-AE3AC54D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4431-2EB3-484D-88AE-39BB273B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3DE7-8EC6-4C99-A656-6F8B151A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6200-E0D5-4C94-ACBF-0CD247D4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1C6-AA67-43EF-84CF-9DADF6C3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BD2C-14A7-4E74-9D9A-686AA22C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F78-0CE5-4500-8824-5D100736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85B-C593-4790-AFF7-988FDF9B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559-E14E-4169-ADC9-3813ABD9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932-1F48-417B-96E0-4FD42484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462-E532-4915-9155-32340B16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4795-9AEB-4B07-A63B-9B4E4D829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C75C-4E61-4E9B-878B-084F532C4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55640" y="54936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333360"/>
            <a:ext cx="7704000" cy="79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Творческий проект на тему: </a:t>
            </a:r>
            <a:r>
              <a:rPr b="0" lang="en-US" sz="5000" spc="-1" strike="noStrike">
                <a:solidFill>
                  <a:srgbClr val="66ccff"/>
                </a:solidFill>
                <a:latin typeface="Cambria"/>
              </a:rPr>
              <a:t>«Подбор растений в уголках природы разных возрастных групп ДОУ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ила Шмидт Анна Валер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удентка 636 груп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549360"/>
            <a:ext cx="80074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Уголок природы пополняется новыми растениями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с разнообразными стеблями (вьющимися, стелющимися или видоизменениями прямостоячих стеблей), имеющими луковицы, клубнелуковиц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2—3 вида традесканци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комнатный виногра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вьющийся плющ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фикус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алоэ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зигокактус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эпифиллю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цикламе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примул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амарилли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76720" y="314172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549360"/>
            <a:ext cx="784836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Уголок природы в подготовительн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к школе групп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Основная задача ознакомления с природой в подготовительной группе — формирование элементарных знаний о существенных зависимостях в мире природы: зависимости растений от комплекса условий (влаги, тепла, свет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В содержание знаний о растительном мире включаются знания о некоторых способах вегетативного размножения раст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26920" y="549360"/>
            <a:ext cx="7705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Циперус, который в течение 10 месяцев в году растет в очень влажной почв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актусы (1—2 вида,), требующие очень небольшой и редкой полив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Традесканции — с большой потребностью во влаг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Узамбарские фиал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Вьющийся плющ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mbria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еран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Фукс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Амарилли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лив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ринум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Драце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Цикламе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Примул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Геманту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32360" y="3141720"/>
            <a:ext cx="321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30592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1. Каменева Л.А. Как знакомить дошкольников с природой. - М., 198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2. Марковская М. М. Уголок природы в детском саду: Кн. Для воспитателя дет. сада. - 2-е изд., дораб. - М.: Просвещение, 198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3. Мир природы и ребенок. (Методика экологического воспитания дошкольников): Учебное пособие для педагогических училищ по специальности «Дошкольное образование» /Л.А. Каменева, Н. Н. Кондратьева, - СПб.: «Детство- пресс», 200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4. Николаева С. Н. Методика экологического воспитания дошкольников: Учеб. пособие для студ. сред. пед. учеб. заведений. - 3-е изд., перераб. - М.: Издательский центр «Академия», 200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5. Николаева С.Н. Экологическое воспитание младших дошкольников: Книга для воспитателей детского сада. - М.: Мозаика - Синтез, 200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6. Ознакомление дошкольников с природой: Учебник для учащихся пед. училищ по спец. "Дошкольное воспитание" и "Воспитание в дошкольных учреждениях" / С. А. Веретенникова. - 3-е изд., перераб. и доп. - М.: Просвещение, 198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7.  Сост. Л.А.Каменева, "Как знакомить дошкольников с природой", М., 1983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http://www.detskiysad.ru/priroda/587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http://vsaduidoma.ru/2009/11/13/komnatnye-rasteniya-dlya-detskoj-komnat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84720" y="404640"/>
            <a:ext cx="223236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1280" y="836640"/>
            <a:ext cx="78483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Любовь к природе, навыки бережного отношения к ней, забота о живых существах рождают не только интерес к природе, но и способствуют формированию у детей лучших черт характера, таких, как патриотизм, трудолюбие, уважение к труду взросл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Познакомить детей с природой, воспитать любовь к ней поможет уголок природы детского сада, где содержатся комнатные растения и некоторые животные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508720" y="4581360"/>
            <a:ext cx="2843280" cy="16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549360"/>
            <a:ext cx="78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549360"/>
            <a:ext cx="78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47628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9360"/>
            <a:ext cx="799164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Franklin Gothic Heavy"/>
              </a:rPr>
              <a:t>Уголок прир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предоставляет возможность сосредоточить внимание детей на небольшом количестве обитателей, на наиболее типичных их признаках и тем самым обеспечить более глубокие и прочные зн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В уголке природы дошкольники могут в течение всего дня подходить к животным и растениям, рассматривать их, вести за ними длительное наблюд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19640" y="4419720"/>
            <a:ext cx="317988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404640"/>
            <a:ext cx="7920000" cy="62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Cambria"/>
              </a:rPr>
              <a:t>Комнатные растения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ценный дидактический материал, они являются обязательными обитателями уголка прир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Растения, которые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НЕЛЬЗЯ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ставить в детской комнате, потому что они либо содержат ядовитый сок, либо имеют шипы</a:t>
            </a: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mbria"/>
              </a:rPr>
              <a:t>акалифа, адениум, аламанда, бровалия, брунфельсия, кротон, диффенбахия, дипладения, молочай, пуансетгия, паслен ложно персчечный, гипеаструм, кактусы, пахиподиум</a:t>
            </a:r>
            <a:r>
              <a:rPr b="1" lang="ru-RU" sz="2800" spc="-1" strike="noStrike">
                <a:solidFill>
                  <a:srgbClr val="333333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740720" y="1197000"/>
            <a:ext cx="1403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26920" y="404640"/>
            <a:ext cx="75614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Уголок природы в младших группа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Малыши должны научиться узнавать и называть 2—3 растения, их основные части (лист, стебель, цветок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Дети привлекаются к уходу за растениям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поливают водой, приготовленной взрослым (он же определяет и дозировку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обтирают влажной тряпочкой крупные кожистые листья раст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4360" y="549360"/>
            <a:ext cx="77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549360"/>
            <a:ext cx="7777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Обыкновенная (или зональная) геран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фукс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вечноцветущая бего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бальзамин («огонек»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азал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итайский роза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аукуба («золотое» дерево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олеус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амел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арал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фи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Из названных видов для наблюдения в течение года вносят 3—4 раст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251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55640" y="620640"/>
            <a:ext cx="777708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Уголок природы в средней групп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Число растений, которые узнают и называют ребята, возрастает. Наблюдая за растениями, подмечают яркие проявления в росте, развитии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Ребята овладевают новыми приемами: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обливают из мелкосетчатой лейки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обтирают влажной кисточкой листь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При этом дети учатся устанавливать способ ухода в зависимости от характера листьев: величины, количества, характера поверхности, их хрупкост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00000" y="404640"/>
            <a:ext cx="777744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ambria"/>
              </a:rPr>
              <a:t>В средней группе помещаю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Алоэ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агаву (с сочными листьями, имеющими зазубрины по краям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бегонию-рекс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аспарагус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душистую гера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традесканц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зефирантес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В уголке природы может бы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до 6—8 видов раст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80000" y="1989000"/>
            <a:ext cx="285768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-1116000" y="4437000"/>
          <a:ext cx="21600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0000" y="620640"/>
            <a:ext cx="777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Уголок природы в старшей групп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Основным содержанием наблюдений становятся рост и развитие раст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Дети должны знать, что растения для своего роста нуждаются в свете, влаге, тепле, почвенном питании; разные растения нуждаются в разном количестве света, вла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2:17:39Z</dcterms:created>
  <dc:creator>Аня</dc:creator>
  <dc:description/>
  <dc:language>en-US</dc:language>
  <cp:lastModifiedBy>студент</cp:lastModifiedBy>
  <dcterms:modified xsi:type="dcterms:W3CDTF">2010-05-17T06:37:08Z</dcterms:modified>
  <cp:revision>3</cp:revision>
  <dc:subject/>
  <dc:title>Слайд 1</dc:title>
</cp:coreProperties>
</file>